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9FA-1B52-42E0-B6FC-38DCD1D1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736-4393-45C8-9A4A-1FABFD09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4EE-568C-4F21-B20F-0B2D5363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61F-2244-42E4-B736-289C5150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035A-B6F4-4696-8DBD-67977233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6F08-82B6-428E-B105-BE050C7F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0E22-F2A3-401D-9954-905A72DD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A401-2070-41C1-A762-8C3705D1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9565-B49A-4B97-9FF4-36FC0015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5072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039D-E1D6-49E7-ABFF-956C0FAE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B9A9-4C96-4E6C-A6A9-C06F7663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CAE-4091-4BFE-8938-1B125CDA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4E6A-DF4E-499E-844D-BA12D766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9B98-9BFA-4951-9977-063856EB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C299-34E2-4DA8-B400-132377BA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D725-ADC0-434E-92B0-6A5F4D57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EC17-3B95-4F9F-A636-7B2398E9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94D-375B-4DDD-B6CB-E1F397BD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D1B-4E12-44AC-8E89-82C4BA54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BAA-2B79-46E2-A6C2-1A5528FC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5072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D72-0438-4ACD-B3E5-F4830636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58D-5F6D-4B2E-BEAF-ED3D6BFD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1E2-F545-4E1D-88BA-61A8B4B6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331-D163-4572-B09E-AA6A1543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1640" y="689040"/>
            <a:ext cx="4384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14320" y="68904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55480" y="11113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5560" y="11113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1120" y="103824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76160" y="58104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3716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F559-910A-4CF9-933B-86AFCF9CE8C5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7006-270A-4660-9C5F-A4ADB1615F43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eil I : Lineare Lis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51080" y="2021040"/>
            <a:ext cx="44748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2888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3692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45320" y="2021040"/>
            <a:ext cx="44748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3276360" y="223812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/>
          <p:nvPr/>
        </p:nvCxnSpPr>
        <p:spPr>
          <a:xfrm>
            <a:off x="1807920" y="223812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>
            <a:off x="4784760" y="223812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552760" y="4614840"/>
            <a:ext cx="100656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66240" y="24541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>
            <a:off x="6292800" y="223812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735480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51080" y="38336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8880" y="38336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36920" y="38336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45320" y="38336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276360" y="405108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5" name=""/>
          <p:cNvCxnSpPr/>
          <p:nvPr/>
        </p:nvCxnSpPr>
        <p:spPr>
          <a:xfrm>
            <a:off x="1807920" y="405108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4784760" y="40510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7" name=""/>
          <p:cNvCxnSpPr/>
          <p:nvPr/>
        </p:nvCxnSpPr>
        <p:spPr>
          <a:xfrm>
            <a:off x="6292800" y="40510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7354800" y="38336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51080" y="558000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28880" y="558000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36920" y="558000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45320" y="558000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/>
          <p:nvPr/>
        </p:nvCxnSpPr>
        <p:spPr>
          <a:xfrm>
            <a:off x="3276360" y="579708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>
            <a:off x="1807920" y="579708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/>
          <p:nvPr/>
        </p:nvCxnSpPr>
        <p:spPr>
          <a:xfrm>
            <a:off x="4784760" y="57970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/>
          <p:nvPr/>
        </p:nvCxnSpPr>
        <p:spPr>
          <a:xfrm>
            <a:off x="6292800" y="57970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354800" y="558000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4"/>
            <a:endCxn id="118" idx="0"/>
          </p:cNvCxnSpPr>
          <p:nvPr/>
        </p:nvCxnSpPr>
        <p:spPr>
          <a:xfrm>
            <a:off x="7578720" y="2454120"/>
            <a:ext cx="360" cy="137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0" idx="4"/>
            <a:endCxn id="119" idx="0"/>
          </p:cNvCxnSpPr>
          <p:nvPr/>
        </p:nvCxnSpPr>
        <p:spPr>
          <a:xfrm>
            <a:off x="1575000" y="4267080"/>
            <a:ext cx="360" cy="13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V="1">
            <a:off x="3044880" y="426708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765520" y="424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58280" y="2082960"/>
            <a:ext cx="6238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r untersuchen nun im Folgenden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e Realisierung der Meth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.Fir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1754280"/>
            <a:ext cx="6094440" cy="5821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urrentNode := Dummy.ReadSuc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95440" y="3457440"/>
            <a:ext cx="447840" cy="433440"/>
          </a:xfrm>
          <a:prstGeom prst="ellipse">
            <a:avLst/>
          </a:prstGeom>
          <a:solidFill>
            <a:srgbClr val="c9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3480" y="34574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81640" y="34574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89680" y="34574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97720" y="34574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9480" y="4592520"/>
            <a:ext cx="100620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64240" y="4592520"/>
            <a:ext cx="153684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237360" y="38905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19360" y="38905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237360" y="3890520"/>
            <a:ext cx="0" cy="70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3450960" y="3890520"/>
            <a:ext cx="22129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973160" y="368424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/>
          <p:nvPr/>
        </p:nvCxnSpPr>
        <p:spPr>
          <a:xfrm>
            <a:off x="3451320" y="368424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>
            <a:off x="4959360" y="368424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/>
          <p:nvPr/>
        </p:nvCxnSpPr>
        <p:spPr>
          <a:xfrm>
            <a:off x="6437160" y="368424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4156200" y="4592520"/>
            <a:ext cx="124452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d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729320" y="38905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729320" y="3890520"/>
            <a:ext cx="0" cy="70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942920" y="3890520"/>
            <a:ext cx="22129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2344680"/>
            <a:ext cx="6094440" cy="5821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edNode    := Dumm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.Cre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1149480" y="2108160"/>
            <a:ext cx="6537240" cy="54288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mmy:=TListnode.Create(ni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65520" y="424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432160" y="4547880"/>
            <a:ext cx="919440" cy="887040"/>
            <a:chOff x="2432160" y="4547880"/>
            <a:chExt cx="919440" cy="887040"/>
          </a:xfrm>
        </p:grpSpPr>
        <p:sp>
          <p:nvSpPr>
            <p:cNvPr id="286" name=""/>
            <p:cNvSpPr/>
            <p:nvPr/>
          </p:nvSpPr>
          <p:spPr>
            <a:xfrm>
              <a:off x="2432160" y="509760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um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flipV="1">
              <a:off x="2949480" y="4547880"/>
              <a:ext cx="4024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3393720" y="4091040"/>
            <a:ext cx="2865960" cy="449280"/>
            <a:chOff x="3393720" y="4091040"/>
            <a:chExt cx="2865960" cy="449280"/>
          </a:xfrm>
        </p:grpSpPr>
        <p:grpSp>
          <p:nvGrpSpPr>
            <p:cNvPr id="289" name=""/>
            <p:cNvGrpSpPr/>
            <p:nvPr/>
          </p:nvGrpSpPr>
          <p:grpSpPr>
            <a:xfrm>
              <a:off x="3393720" y="4091040"/>
              <a:ext cx="2067120" cy="449280"/>
              <a:chOff x="3393720" y="4091040"/>
              <a:chExt cx="2067120" cy="449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393720" y="4091040"/>
                <a:ext cx="1087920" cy="449280"/>
              </a:xfrm>
              <a:prstGeom prst="rect">
                <a:avLst/>
              </a:prstGeom>
              <a:solidFill>
                <a:srgbClr val="a7ff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nil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68760" y="4243320"/>
                <a:ext cx="89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460840" y="4091040"/>
              <a:ext cx="79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998960" y="4427280"/>
            <a:ext cx="1260720" cy="1007640"/>
            <a:chOff x="4998960" y="4427280"/>
            <a:chExt cx="1260720" cy="1007640"/>
          </a:xfrm>
        </p:grpSpPr>
        <p:sp>
          <p:nvSpPr>
            <p:cNvPr id="294" name=""/>
            <p:cNvSpPr/>
            <p:nvPr/>
          </p:nvSpPr>
          <p:spPr>
            <a:xfrm>
              <a:off x="4998960" y="5097600"/>
              <a:ext cx="12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urrent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664240" y="44272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35280" y="4548240"/>
            <a:ext cx="1137960" cy="886680"/>
            <a:chOff x="3635280" y="4548240"/>
            <a:chExt cx="1137960" cy="886680"/>
          </a:xfrm>
        </p:grpSpPr>
        <p:sp>
          <p:nvSpPr>
            <p:cNvPr id="297" name=""/>
            <p:cNvSpPr/>
            <p:nvPr/>
          </p:nvSpPr>
          <p:spPr>
            <a:xfrm>
              <a:off x="3635280" y="509760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ed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076640" y="454824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149480" y="2670120"/>
            <a:ext cx="6537240" cy="54288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dNode := dumm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49480" y="3232080"/>
            <a:ext cx="6537240" cy="54288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urrentNode := PredNode.ReadSuc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.Insert(Eleme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1149480" y="1814400"/>
            <a:ext cx="5029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:=TListnode.Create(Element)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76400" y="4056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0560" y="3903840"/>
            <a:ext cx="157824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1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18440" y="5054760"/>
            <a:ext cx="16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91280" y="3906720"/>
            <a:ext cx="152856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2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62080" y="2548080"/>
            <a:ext cx="5029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dNode.WriteSucc(newNod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9480" y="2181240"/>
            <a:ext cx="5029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.WriteSucc(currentNod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49480" y="2914560"/>
            <a:ext cx="5029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 := new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/>
          <p:nvPr/>
        </p:nvCxnSpPr>
        <p:spPr>
          <a:xfrm>
            <a:off x="777600" y="4055760"/>
            <a:ext cx="913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7719840" y="4056120"/>
            <a:ext cx="60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70360" y="4361040"/>
            <a:ext cx="822240" cy="88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370480" y="4368600"/>
            <a:ext cx="1106640" cy="75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068960" y="43686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068960" y="4368600"/>
            <a:ext cx="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370120" y="52466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77080" y="384336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92600" y="4910040"/>
            <a:ext cx="1577880" cy="1010160"/>
            <a:chOff x="3792600" y="4910040"/>
            <a:chExt cx="1577880" cy="1010160"/>
          </a:xfrm>
        </p:grpSpPr>
        <p:sp>
          <p:nvSpPr>
            <p:cNvPr id="319" name=""/>
            <p:cNvSpPr/>
            <p:nvPr/>
          </p:nvSpPr>
          <p:spPr>
            <a:xfrm>
              <a:off x="4084200" y="558288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w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92600" y="4910040"/>
              <a:ext cx="1577880" cy="449280"/>
            </a:xfrm>
            <a:prstGeom prst="rect">
              <a:avLst/>
            </a:prstGeom>
            <a:solidFill>
              <a:srgbClr val="a7ff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Element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545000" y="53668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268800" y="4056120"/>
            <a:ext cx="29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8800" y="4056120"/>
            <a:ext cx="292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62080" y="1814400"/>
            <a:ext cx="5016600" cy="146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90560" y="4870440"/>
            <a:ext cx="13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d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235240" y="4368600"/>
            <a:ext cx="0" cy="50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.Add(Eleme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351080" y="1890720"/>
            <a:ext cx="6772320" cy="25416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 diese Weise wird also immer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dem aktuellen Elem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efüg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ll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hinter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dem letzten Element eingefügt werden, benötigen wir hierfür eine eigene Methode: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add (new: T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 der Implementation ist als Spezialfall das Einfügen bei einer leeren Liste zu beach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.Del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076400" y="359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0560" y="3446640"/>
            <a:ext cx="96228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90560" y="4670280"/>
            <a:ext cx="13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d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/>
          <p:nvPr/>
        </p:nvCxnSpPr>
        <p:spPr>
          <a:xfrm>
            <a:off x="777600" y="3598560"/>
            <a:ext cx="913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7448400" y="3598920"/>
            <a:ext cx="8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777080" y="338616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83120" y="3446640"/>
            <a:ext cx="96192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ele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86480" y="3446640"/>
            <a:ext cx="96192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52840" y="359892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56200" y="35942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251080" y="3903480"/>
            <a:ext cx="0" cy="76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31" idx="0"/>
            <a:endCxn id="337" idx="0"/>
          </p:cNvCxnSpPr>
          <p:nvPr/>
        </p:nvCxnSpPr>
        <p:spPr>
          <a:xfrm flipH="1" rot="16200000">
            <a:off x="4568760" y="1049400"/>
            <a:ext cx="2160" cy="479628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2652840" y="3594240"/>
            <a:ext cx="1430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909960" y="3903480"/>
            <a:ext cx="1474560" cy="1104120"/>
            <a:chOff x="3909960" y="3903480"/>
            <a:chExt cx="1474560" cy="1104120"/>
          </a:xfrm>
        </p:grpSpPr>
        <p:sp>
          <p:nvSpPr>
            <p:cNvPr id="344" name=""/>
            <p:cNvSpPr/>
            <p:nvPr/>
          </p:nvSpPr>
          <p:spPr>
            <a:xfrm>
              <a:off x="3909960" y="467028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urrent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449240" y="3903480"/>
              <a:ext cx="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762440" y="3598920"/>
            <a:ext cx="1724040" cy="10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86480" y="4660920"/>
            <a:ext cx="13017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480" y="1814400"/>
            <a:ext cx="53370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dNode.WriteSucc(currentNode.ReadSucc)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56000" y="3386160"/>
            <a:ext cx="303048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49480" y="2181240"/>
            <a:ext cx="5337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.destro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86480" y="3446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6480" y="4670280"/>
            <a:ext cx="0" cy="336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559400" y="3903480"/>
            <a:ext cx="0" cy="766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384880" y="3903480"/>
            <a:ext cx="1101600" cy="76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49480" y="2548080"/>
            <a:ext cx="5337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:=PredNode.ReadSuc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90560" y="5470560"/>
            <a:ext cx="5337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Das Objekt, auf welches das gelöschte Listenelement zeigt, bleibt übrig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.Delete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(den aktuellen Knoten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1260360" y="1852560"/>
            <a:ext cx="7066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Also ist es sinnvoll, durch das listenverwaltende Objekt diejenigen Objekte, auf welche die Liste zeigt, - </a:t>
            </a:r>
            <a:r>
              <a:rPr b="1" lang="de-DE" sz="1700" spc="-1" strike="noStrike">
                <a:solidFill>
                  <a:srgbClr val="ff0000"/>
                </a:solidFill>
                <a:latin typeface="Arial"/>
              </a:rPr>
              <a:t>wenn gewollt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 - vor dem delete zu lösche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51080" y="3011400"/>
            <a:ext cx="7065720" cy="19832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liste := TLinList.Cre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.....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liste.isempty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hliste.GetElement.destroy;   { So wird gelösch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Liste.dele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60360" y="5359320"/>
            <a:ext cx="706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Nicht gewoll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ist das Löschen z.B., wenn Elemente aus einer Liste herausgenommen und in eine andere Liste hineingeschrieben werden so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601560" y="19922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09960" y="19922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87760" y="19922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95800" y="19922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03840" y="19922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/>
          <p:nvPr/>
        </p:nvCxnSpPr>
        <p:spPr>
          <a:xfrm>
            <a:off x="1079640" y="221904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"/>
          <p:cNvCxnSpPr/>
          <p:nvPr/>
        </p:nvCxnSpPr>
        <p:spPr>
          <a:xfrm>
            <a:off x="2557440" y="221904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/>
          <p:nvPr/>
        </p:nvCxnSpPr>
        <p:spPr>
          <a:xfrm>
            <a:off x="4065480" y="221904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/>
          <p:nvPr/>
        </p:nvCxnSpPr>
        <p:spPr>
          <a:xfrm>
            <a:off x="5543640" y="221904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/>
          <p:nvPr/>
        </p:nvCxnSpPr>
        <p:spPr>
          <a:xfrm>
            <a:off x="7051680" y="221904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8082000" y="19922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79640" y="2714760"/>
            <a:ext cx="6771960" cy="31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s war ein erster Einblick in einige Aspekte der Implementation Linearer Listen mit Hilfe von rekursiv definierten Listenkno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r weiteren Arbeit empfiehlt es sich, das Umbiegen der Zeiger genau aufzuzeichnen und Spezialfälle wi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ere List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Anfang der List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Ende der List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au zu beach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1351080" y="2496960"/>
            <a:ext cx="6094440" cy="265356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iel Vergnü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i der Bearb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r ersten Aufgabe(n)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560" y="5427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109960" y="542772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87760" y="5427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95800" y="5427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03840" y="5427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/>
          <p:nvPr/>
        </p:nvCxnSpPr>
        <p:spPr>
          <a:xfrm>
            <a:off x="1079640" y="56541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/>
          <p:nvPr/>
        </p:nvCxnSpPr>
        <p:spPr>
          <a:xfrm>
            <a:off x="2557440" y="56541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>
            <a:off x="4065480" y="56541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/>
          <p:nvPr/>
        </p:nvCxnSpPr>
        <p:spPr>
          <a:xfrm>
            <a:off x="5543640" y="56541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/>
          <p:nvPr/>
        </p:nvCxnSpPr>
        <p:spPr>
          <a:xfrm>
            <a:off x="7051680" y="56541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8082000" y="542772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01560" y="1528560"/>
            <a:ext cx="7927560" cy="702000"/>
            <a:chOff x="601560" y="1528560"/>
            <a:chExt cx="7927560" cy="702000"/>
          </a:xfrm>
        </p:grpSpPr>
        <p:sp>
          <p:nvSpPr>
            <p:cNvPr id="388" name=""/>
            <p:cNvSpPr/>
            <p:nvPr/>
          </p:nvSpPr>
          <p:spPr>
            <a:xfrm flipH="1">
              <a:off x="601560" y="1797120"/>
              <a:ext cx="447840" cy="433440"/>
            </a:xfrm>
            <a:prstGeom prst="ellipse">
              <a:avLst/>
            </a:prstGeom>
            <a:solidFill>
              <a:srgbClr val="c9ff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2109240" y="179712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587760" y="1797120"/>
              <a:ext cx="44784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095800" y="1797120"/>
              <a:ext cx="44784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603840" y="1797120"/>
              <a:ext cx="44784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167520" y="1528560"/>
              <a:ext cx="0" cy="7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167520" y="1528560"/>
              <a:ext cx="0" cy="70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/>
            <p:nvPr/>
          </p:nvCxnSpPr>
          <p:spPr>
            <a:xfrm flipH="1">
              <a:off x="1079280" y="2023560"/>
              <a:ext cx="1031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6" name=""/>
            <p:cNvCxnSpPr/>
            <p:nvPr/>
          </p:nvCxnSpPr>
          <p:spPr>
            <a:xfrm flipH="1">
              <a:off x="2557080" y="2023560"/>
              <a:ext cx="1031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7" name=""/>
            <p:cNvCxnSpPr/>
            <p:nvPr/>
          </p:nvCxnSpPr>
          <p:spPr>
            <a:xfrm flipH="1">
              <a:off x="4065120" y="2023560"/>
              <a:ext cx="1031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"/>
            <p:cNvCxnSpPr/>
            <p:nvPr/>
          </p:nvCxnSpPr>
          <p:spPr>
            <a:xfrm flipH="1">
              <a:off x="5543280" y="2023560"/>
              <a:ext cx="1031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"/>
            <p:cNvCxnSpPr/>
            <p:nvPr/>
          </p:nvCxnSpPr>
          <p:spPr>
            <a:xfrm flipH="1">
              <a:off x="7051320" y="2023560"/>
              <a:ext cx="1031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0" name=""/>
            <p:cNvSpPr/>
            <p:nvPr/>
          </p:nvSpPr>
          <p:spPr>
            <a:xfrm flipH="1">
              <a:off x="8081280" y="179712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8082000" y="2228040"/>
            <a:ext cx="447480" cy="3199320"/>
            <a:chOff x="8082000" y="2228040"/>
            <a:chExt cx="447480" cy="3199320"/>
          </a:xfrm>
        </p:grpSpPr>
        <p:sp>
          <p:nvSpPr>
            <p:cNvPr id="402" name=""/>
            <p:cNvSpPr/>
            <p:nvPr/>
          </p:nvSpPr>
          <p:spPr>
            <a:xfrm>
              <a:off x="8082000" y="437976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82000" y="312264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4" name=""/>
            <p:cNvCxnSpPr>
              <a:stCxn id="386" idx="0"/>
              <a:endCxn id="402" idx="4"/>
            </p:cNvCxnSpPr>
            <p:nvPr/>
          </p:nvCxnSpPr>
          <p:spPr>
            <a:xfrm flipV="1">
              <a:off x="8305560" y="481248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5" name=""/>
            <p:cNvCxnSpPr>
              <a:stCxn id="402" idx="0"/>
              <a:endCxn id="403" idx="4"/>
            </p:cNvCxnSpPr>
            <p:nvPr/>
          </p:nvCxnSpPr>
          <p:spPr>
            <a:xfrm flipV="1">
              <a:off x="8305560" y="3555720"/>
              <a:ext cx="1080" cy="82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"/>
            <p:cNvCxnSpPr>
              <a:stCxn id="403" idx="0"/>
              <a:endCxn id="400" idx="4"/>
            </p:cNvCxnSpPr>
            <p:nvPr/>
          </p:nvCxnSpPr>
          <p:spPr>
            <a:xfrm flipV="1">
              <a:off x="8305560" y="2228040"/>
              <a:ext cx="1080" cy="89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07" name=""/>
          <p:cNvGrpSpPr/>
          <p:nvPr/>
        </p:nvGrpSpPr>
        <p:grpSpPr>
          <a:xfrm>
            <a:off x="601560" y="2229120"/>
            <a:ext cx="447480" cy="3199320"/>
            <a:chOff x="601560" y="2229120"/>
            <a:chExt cx="447480" cy="3199320"/>
          </a:xfrm>
        </p:grpSpPr>
        <p:sp>
          <p:nvSpPr>
            <p:cNvPr id="408" name=""/>
            <p:cNvSpPr/>
            <p:nvPr/>
          </p:nvSpPr>
          <p:spPr>
            <a:xfrm flipV="1">
              <a:off x="601560" y="284328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01560" y="410040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0" name=""/>
            <p:cNvCxnSpPr>
              <a:endCxn id="408" idx="4"/>
            </p:cNvCxnSpPr>
            <p:nvPr/>
          </p:nvCxnSpPr>
          <p:spPr>
            <a:xfrm>
              <a:off x="825120" y="222912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8" idx="0"/>
              <a:endCxn id="409" idx="4"/>
            </p:cNvCxnSpPr>
            <p:nvPr/>
          </p:nvCxnSpPr>
          <p:spPr>
            <a:xfrm>
              <a:off x="825120" y="3276720"/>
              <a:ext cx="1080" cy="82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9" idx="0"/>
            </p:cNvCxnSpPr>
            <p:nvPr/>
          </p:nvCxnSpPr>
          <p:spPr>
            <a:xfrm>
              <a:off x="825120" y="4534200"/>
              <a:ext cx="1080" cy="89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doppelt verkettete Lis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66240" y="2021040"/>
            <a:ext cx="7186320" cy="3992400"/>
            <a:chOff x="966240" y="2021040"/>
            <a:chExt cx="7186320" cy="3992400"/>
          </a:xfrm>
        </p:grpSpPr>
        <p:sp>
          <p:nvSpPr>
            <p:cNvPr id="415" name=""/>
            <p:cNvSpPr/>
            <p:nvPr/>
          </p:nvSpPr>
          <p:spPr>
            <a:xfrm>
              <a:off x="1351080" y="2021040"/>
              <a:ext cx="447480" cy="433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28880" y="2021040"/>
              <a:ext cx="447840" cy="433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36920" y="2021040"/>
              <a:ext cx="447840" cy="433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45320" y="2021040"/>
              <a:ext cx="447480" cy="433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9" name=""/>
            <p:cNvCxnSpPr/>
            <p:nvPr/>
          </p:nvCxnSpPr>
          <p:spPr>
            <a:xfrm>
              <a:off x="3276360" y="2238120"/>
              <a:ext cx="1060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20" name=""/>
            <p:cNvCxnSpPr/>
            <p:nvPr/>
          </p:nvCxnSpPr>
          <p:spPr>
            <a:xfrm>
              <a:off x="1807920" y="2238120"/>
              <a:ext cx="1060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21" name=""/>
            <p:cNvCxnSpPr/>
            <p:nvPr/>
          </p:nvCxnSpPr>
          <p:spPr>
            <a:xfrm>
              <a:off x="4784760" y="2238120"/>
              <a:ext cx="10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22" name=""/>
            <p:cNvSpPr/>
            <p:nvPr/>
          </p:nvSpPr>
          <p:spPr>
            <a:xfrm>
              <a:off x="2552760" y="4614840"/>
              <a:ext cx="1006560" cy="418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720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03000" y="533556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66240" y="2454120"/>
              <a:ext cx="38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5" name=""/>
            <p:cNvCxnSpPr/>
            <p:nvPr/>
          </p:nvCxnSpPr>
          <p:spPr>
            <a:xfrm>
              <a:off x="6292800" y="2238120"/>
              <a:ext cx="10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26" name=""/>
            <p:cNvSpPr/>
            <p:nvPr/>
          </p:nvSpPr>
          <p:spPr>
            <a:xfrm>
              <a:off x="7354800" y="2021040"/>
              <a:ext cx="447840" cy="433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51080" y="383364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28880" y="3833640"/>
              <a:ext cx="44784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36920" y="3833640"/>
              <a:ext cx="44784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45320" y="383364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1" name=""/>
            <p:cNvCxnSpPr/>
            <p:nvPr/>
          </p:nvCxnSpPr>
          <p:spPr>
            <a:xfrm>
              <a:off x="3276360" y="4051080"/>
              <a:ext cx="1060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32" name=""/>
            <p:cNvCxnSpPr/>
            <p:nvPr/>
          </p:nvCxnSpPr>
          <p:spPr>
            <a:xfrm>
              <a:off x="1807920" y="4051080"/>
              <a:ext cx="1060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33" name=""/>
            <p:cNvCxnSpPr/>
            <p:nvPr/>
          </p:nvCxnSpPr>
          <p:spPr>
            <a:xfrm>
              <a:off x="4784760" y="4051080"/>
              <a:ext cx="10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34" name=""/>
            <p:cNvCxnSpPr/>
            <p:nvPr/>
          </p:nvCxnSpPr>
          <p:spPr>
            <a:xfrm>
              <a:off x="6292800" y="4051080"/>
              <a:ext cx="10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35" name=""/>
            <p:cNvSpPr/>
            <p:nvPr/>
          </p:nvSpPr>
          <p:spPr>
            <a:xfrm>
              <a:off x="7354800" y="3833640"/>
              <a:ext cx="44784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51080" y="558000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28880" y="5580000"/>
              <a:ext cx="44784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36920" y="5580000"/>
              <a:ext cx="44784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45320" y="5580000"/>
              <a:ext cx="44748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0" name=""/>
            <p:cNvCxnSpPr/>
            <p:nvPr/>
          </p:nvCxnSpPr>
          <p:spPr>
            <a:xfrm>
              <a:off x="3276360" y="5797080"/>
              <a:ext cx="1060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1" name=""/>
            <p:cNvCxnSpPr/>
            <p:nvPr/>
          </p:nvCxnSpPr>
          <p:spPr>
            <a:xfrm>
              <a:off x="1807920" y="5797080"/>
              <a:ext cx="1060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2" name=""/>
            <p:cNvCxnSpPr/>
            <p:nvPr/>
          </p:nvCxnSpPr>
          <p:spPr>
            <a:xfrm>
              <a:off x="4784760" y="5797080"/>
              <a:ext cx="10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3" name=""/>
            <p:cNvCxnSpPr/>
            <p:nvPr/>
          </p:nvCxnSpPr>
          <p:spPr>
            <a:xfrm>
              <a:off x="6292800" y="5797080"/>
              <a:ext cx="10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44" name=""/>
            <p:cNvSpPr/>
            <p:nvPr/>
          </p:nvSpPr>
          <p:spPr>
            <a:xfrm>
              <a:off x="7354800" y="5580000"/>
              <a:ext cx="447840" cy="433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5" name=""/>
            <p:cNvCxnSpPr>
              <a:stCxn id="426" idx="4"/>
              <a:endCxn id="435" idx="0"/>
            </p:cNvCxnSpPr>
            <p:nvPr/>
          </p:nvCxnSpPr>
          <p:spPr>
            <a:xfrm>
              <a:off x="7578360" y="2454120"/>
              <a:ext cx="1080" cy="13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6" name=""/>
            <p:cNvCxnSpPr>
              <a:stCxn id="427" idx="4"/>
              <a:endCxn id="436" idx="0"/>
            </p:cNvCxnSpPr>
            <p:nvPr/>
          </p:nvCxnSpPr>
          <p:spPr>
            <a:xfrm>
              <a:off x="1574280" y="4266720"/>
              <a:ext cx="1080" cy="131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47" name=""/>
            <p:cNvSpPr/>
            <p:nvPr/>
          </p:nvSpPr>
          <p:spPr>
            <a:xfrm flipV="1">
              <a:off x="3044880" y="42670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Graph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5800" y="173484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noten (Node): Inh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anten (Pointer):  Verbindung (abgeh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7489800" y="2241360"/>
            <a:ext cx="1362960" cy="3560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34" name=""/>
          <p:cNvGrpSpPr/>
          <p:nvPr/>
        </p:nvGrpSpPr>
        <p:grpSpPr>
          <a:xfrm>
            <a:off x="1182600" y="3287880"/>
            <a:ext cx="2567160" cy="2256840"/>
            <a:chOff x="1182600" y="3287880"/>
            <a:chExt cx="2567160" cy="2256840"/>
          </a:xfrm>
        </p:grpSpPr>
        <p:sp>
          <p:nvSpPr>
            <p:cNvPr id="135" name=""/>
            <p:cNvSpPr/>
            <p:nvPr/>
          </p:nvSpPr>
          <p:spPr>
            <a:xfrm>
              <a:off x="1528560" y="3287880"/>
              <a:ext cx="346320" cy="354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00320" y="3996720"/>
              <a:ext cx="345960" cy="3546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74840" y="4835880"/>
              <a:ext cx="345960" cy="3546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00320" y="5190480"/>
              <a:ext cx="345960" cy="354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2600" y="4126320"/>
              <a:ext cx="345960" cy="3546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01680" y="3287880"/>
              <a:ext cx="346320" cy="354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0" idx="6"/>
              <a:endCxn id="137" idx="6"/>
            </p:cNvCxnSpPr>
            <p:nvPr/>
          </p:nvCxnSpPr>
          <p:spPr>
            <a:xfrm>
              <a:off x="3348000" y="3465720"/>
              <a:ext cx="173520" cy="1548720"/>
            </a:xfrm>
            <a:prstGeom prst="curvedConnector5">
              <a:avLst>
                <a:gd name="adj1" fmla="val 232016"/>
                <a:gd name="adj2" fmla="val 49988"/>
                <a:gd name="adj3" fmla="val 23201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40" idx="2"/>
              <a:endCxn id="135" idx="6"/>
            </p:cNvCxnSpPr>
            <p:nvPr/>
          </p:nvCxnSpPr>
          <p:spPr>
            <a:xfrm rot="10800000">
              <a:off x="1874160" y="3465000"/>
              <a:ext cx="11275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6" idx="5"/>
              <a:endCxn id="137" idx="1"/>
            </p:cNvCxnSpPr>
            <p:nvPr/>
          </p:nvCxnSpPr>
          <p:spPr>
            <a:xfrm>
              <a:off x="2495520" y="4299120"/>
              <a:ext cx="730800" cy="58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4" name=""/>
            <p:cNvCxnSpPr>
              <a:stCxn id="135" idx="5"/>
              <a:endCxn id="136" idx="1"/>
            </p:cNvCxnSpPr>
            <p:nvPr/>
          </p:nvCxnSpPr>
          <p:spPr>
            <a:xfrm>
              <a:off x="1823400" y="3589200"/>
              <a:ext cx="428040" cy="46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5" name=""/>
            <p:cNvCxnSpPr>
              <a:stCxn id="139" idx="5"/>
              <a:endCxn id="137" idx="2"/>
            </p:cNvCxnSpPr>
            <p:nvPr/>
          </p:nvCxnSpPr>
          <p:spPr>
            <a:xfrm>
              <a:off x="1477800" y="4428000"/>
              <a:ext cx="1697760" cy="58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6" name=""/>
            <p:cNvCxnSpPr>
              <a:stCxn id="139" idx="4"/>
              <a:endCxn id="138" idx="2"/>
            </p:cNvCxnSpPr>
            <p:nvPr/>
          </p:nvCxnSpPr>
          <p:spPr>
            <a:xfrm flipH="1" rot="16200000">
              <a:off x="1334160" y="4501800"/>
              <a:ext cx="888120" cy="845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38" idx="7"/>
              <a:endCxn id="140" idx="4"/>
            </p:cNvCxnSpPr>
            <p:nvPr/>
          </p:nvCxnSpPr>
          <p:spPr>
            <a:xfrm flipV="1">
              <a:off x="2495160" y="3641400"/>
              <a:ext cx="680040" cy="160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endCxn id="135" idx="2"/>
            </p:cNvCxnSpPr>
            <p:nvPr/>
          </p:nvCxnSpPr>
          <p:spPr>
            <a:xfrm flipH="1" flipV="1" rot="5400000">
              <a:off x="1086480" y="3683880"/>
              <a:ext cx="660600" cy="224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9" name=""/>
          <p:cNvSpPr/>
          <p:nvPr/>
        </p:nvSpPr>
        <p:spPr>
          <a:xfrm>
            <a:off x="5073480" y="1735200"/>
            <a:ext cx="346320" cy="34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7800" y="3997440"/>
            <a:ext cx="3940200" cy="1547640"/>
          </a:xfrm>
          <a:prstGeom prst="wedgeRectCallout">
            <a:avLst>
              <a:gd name="adj1" fmla="val -76226"/>
              <a:gd name="adj2" fmla="val -8948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Node = class(T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vate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P{ointer}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TObj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nter            : TNodeLi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doppelt verkettete Lis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1335240" y="3954600"/>
            <a:ext cx="6537240" cy="96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oppelte Verkettung macht Vieles einfach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46440" y="2021040"/>
            <a:ext cx="44748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2424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3228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4032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"/>
          <p:cNvCxnSpPr/>
          <p:nvPr/>
        </p:nvCxnSpPr>
        <p:spPr>
          <a:xfrm>
            <a:off x="3771720" y="223812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>
            <a:off x="2303280" y="223812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6" name=""/>
          <p:cNvCxnSpPr/>
          <p:nvPr/>
        </p:nvCxnSpPr>
        <p:spPr>
          <a:xfrm>
            <a:off x="5279760" y="223812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4506840" y="3071880"/>
            <a:ext cx="100656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"/>
          <p:cNvCxnSpPr>
            <a:stCxn id="457" idx="0"/>
            <a:endCxn id="452" idx="4"/>
          </p:cNvCxnSpPr>
          <p:nvPr/>
        </p:nvCxnSpPr>
        <p:spPr>
          <a:xfrm flipV="1">
            <a:off x="5010120" y="2453760"/>
            <a:ext cx="46800" cy="618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6966360" y="21607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52160" y="2160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158920" y="1698480"/>
            <a:ext cx="50004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24880" y="1424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Objec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622920" y="1698480"/>
            <a:ext cx="50004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8880" y="1424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Objec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606840" y="1698480"/>
            <a:ext cx="50004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72440" y="1424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Objec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114880" y="1776240"/>
            <a:ext cx="50004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80480" y="150192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Objec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51080" y="5172120"/>
            <a:ext cx="6537240" cy="78660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Um sie zu realisieren, ist ein weiterer Zeiger auf den Vorgängerknoten nötig: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die einzelnen Knot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846440" y="2021040"/>
            <a:ext cx="44748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2424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3228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4032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/>
          <p:nvPr/>
        </p:nvCxnSpPr>
        <p:spPr>
          <a:xfrm>
            <a:off x="3771720" y="2238120"/>
            <a:ext cx="1060920" cy="1080"/>
          </a:xfrm>
          <a:prstGeom prst="straightConnector1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6" name=""/>
          <p:cNvCxnSpPr/>
          <p:nvPr/>
        </p:nvCxnSpPr>
        <p:spPr>
          <a:xfrm>
            <a:off x="2303280" y="2238120"/>
            <a:ext cx="1060920" cy="1080"/>
          </a:xfrm>
          <a:prstGeom prst="straightConnector1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7" name=""/>
          <p:cNvCxnSpPr/>
          <p:nvPr/>
        </p:nvCxnSpPr>
        <p:spPr>
          <a:xfrm>
            <a:off x="5279760" y="2238120"/>
            <a:ext cx="1060920" cy="1080"/>
          </a:xfrm>
          <a:prstGeom prst="straightConnector1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4506840" y="3071880"/>
            <a:ext cx="100656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"/>
          <p:cNvCxnSpPr>
            <a:stCxn id="478" idx="0"/>
            <a:endCxn id="473" idx="4"/>
          </p:cNvCxnSpPr>
          <p:nvPr/>
        </p:nvCxnSpPr>
        <p:spPr>
          <a:xfrm flipV="1">
            <a:off x="5010120" y="2453760"/>
            <a:ext cx="46800" cy="618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6788880" y="177624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61600" y="17762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63520" y="4272120"/>
            <a:ext cx="6774120" cy="1371600"/>
          </a:xfrm>
          <a:prstGeom prst="wedgeRectCallout">
            <a:avLst>
              <a:gd name="adj1" fmla="val -15291"/>
              <a:gd name="adj2" fmla="val -18032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ListNode = class(T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ValueP{ointer} : TObj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1800" spc="-1" strike="noStrike">
                <a:solidFill>
                  <a:srgbClr val="3366ff"/>
                </a:solidFill>
                <a:latin typeface="Arial"/>
              </a:rPr>
              <a:t>PredP{ointer}, SuccP{ointer}: TList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622920" y="1698480"/>
            <a:ext cx="50004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788880" y="1424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Objec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056200" y="1698480"/>
            <a:ext cx="50004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21800" y="1424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Objec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598920" y="1698480"/>
            <a:ext cx="50004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764520" y="1424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Objec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128680" y="1698480"/>
            <a:ext cx="50040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94640" y="1424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Objec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Knoten: Metho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1351080" y="1962000"/>
            <a:ext cx="6537240" cy="395424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ListN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class(T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lueP:TObj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dP, SuccP: TListN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tructor </a:t>
            </a:r>
            <a:r>
              <a:rPr b="1" lang="de-DE" sz="1800" spc="-1" strike="noStrike">
                <a:solidFill>
                  <a:srgbClr val="ff7c80"/>
                </a:solidFill>
                <a:latin typeface="Arial"/>
              </a:rPr>
              <a:t>Creat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(V:T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ction   </a:t>
            </a: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7c80"/>
                </a:solidFill>
                <a:latin typeface="Arial"/>
              </a:rPr>
              <a:t>ReadValu</a:t>
            </a: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: TObj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de-DE" sz="1800" spc="-1" strike="noStrike">
                <a:solidFill>
                  <a:srgbClr val="ff7c80"/>
                </a:solidFill>
                <a:latin typeface="Arial"/>
              </a:rPr>
              <a:t>WriteValu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(V:T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ReadPr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: TList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de-DE" sz="1800" spc="-1" strike="noStrike">
                <a:solidFill>
                  <a:srgbClr val="ff7c80"/>
                </a:solidFill>
                <a:latin typeface="Arial"/>
              </a:rPr>
              <a:t>ReadSucc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: TList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WritePred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(Pred:TListnod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de-DE" sz="1800" spc="-1" strike="noStrike">
                <a:solidFill>
                  <a:srgbClr val="ff7c80"/>
                </a:solidFill>
                <a:latin typeface="Arial"/>
              </a:rPr>
              <a:t>WriteSucc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(Succ:TListnod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tructor </a:t>
            </a:r>
            <a:r>
              <a:rPr b="1" lang="de-DE" sz="1800" spc="-1" strike="noStrike">
                <a:solidFill>
                  <a:srgbClr val="ff7c80"/>
                </a:solidFill>
                <a:latin typeface="Arial"/>
              </a:rPr>
              <a:t>Destroy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; overri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Realisierung der dvLis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1335240" y="4295880"/>
            <a:ext cx="653724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TdvListe = class(T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unt,Index:integer; {Hilfsvariab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Dummy, currentNode:TList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22360" y="1998720"/>
            <a:ext cx="447840" cy="433440"/>
          </a:xfrm>
          <a:prstGeom prst="ellipse">
            <a:avLst/>
          </a:prstGeom>
          <a:solidFill>
            <a:srgbClr val="c9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30400" y="1998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08560" y="199872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16600" y="1998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24640" y="1998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"/>
          <p:cNvCxnSpPr>
            <a:stCxn id="495" idx="6"/>
            <a:endCxn id="496" idx="2"/>
          </p:cNvCxnSpPr>
          <p:nvPr/>
        </p:nvCxnSpPr>
        <p:spPr>
          <a:xfrm>
            <a:off x="1869840" y="221580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1" name=""/>
          <p:cNvCxnSpPr/>
          <p:nvPr/>
        </p:nvCxnSpPr>
        <p:spPr>
          <a:xfrm>
            <a:off x="4856040" y="221580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2" name=""/>
          <p:cNvCxnSpPr/>
          <p:nvPr/>
        </p:nvCxnSpPr>
        <p:spPr>
          <a:xfrm>
            <a:off x="3387600" y="221580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3" name=""/>
          <p:cNvCxnSpPr/>
          <p:nvPr/>
        </p:nvCxnSpPr>
        <p:spPr>
          <a:xfrm>
            <a:off x="6364080" y="221580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4" name=""/>
          <p:cNvCxnSpPr>
            <a:stCxn id="495" idx="0"/>
            <a:endCxn id="499" idx="0"/>
          </p:cNvCxnSpPr>
          <p:nvPr/>
        </p:nvCxnSpPr>
        <p:spPr>
          <a:xfrm flipH="1" rot="16200000">
            <a:off x="4646520" y="-1001880"/>
            <a:ext cx="2160" cy="6003000"/>
          </a:xfrm>
          <a:prstGeom prst="bentConnector3">
            <a:avLst>
              <a:gd name="adj1" fmla="val -1440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1076400" y="2859120"/>
            <a:ext cx="100656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73640" y="2859120"/>
            <a:ext cx="186372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522200" y="261468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31480" y="26146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646280" y="24321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6140520" y="24321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5240" y="5505480"/>
            <a:ext cx="653724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Wegen der doppelten Verkettung der einzelnen Knoten, benötigt die Liste dann keinen Vorgängerzeiger meh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335240" y="3763800"/>
            <a:ext cx="6537240" cy="51228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Realisierung: ringförmige Verkettung mit dumm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dvListe : Metho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958680" y="2484360"/>
            <a:ext cx="6537600" cy="362124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tructor Crea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tructor Destro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rt (Element: TObject);  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{vor dem akt.Knote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d    (Element: TObject): integer;      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{am End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lete;                               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{den aktuellen Knote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st;         Nex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Last;         Previous;             {die neuen Methoden}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fra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tElement: TObjec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isfirst: boolean;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islast: boolea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sempty: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603600" y="1951200"/>
            <a:ext cx="325440" cy="288720"/>
          </a:xfrm>
          <a:prstGeom prst="ellipse">
            <a:avLst/>
          </a:prstGeom>
          <a:solidFill>
            <a:srgbClr val="c9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99080" y="1949400"/>
            <a:ext cx="325440" cy="289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73680" y="1949400"/>
            <a:ext cx="325440" cy="289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70600" y="1949400"/>
            <a:ext cx="325440" cy="289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967520" y="1949400"/>
            <a:ext cx="325440" cy="289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"/>
          <p:cNvCxnSpPr>
            <a:stCxn id="515" idx="6"/>
            <a:endCxn id="516" idx="2"/>
          </p:cNvCxnSpPr>
          <p:nvPr/>
        </p:nvCxnSpPr>
        <p:spPr>
          <a:xfrm flipV="1">
            <a:off x="3928680" y="2093040"/>
            <a:ext cx="7707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1" name=""/>
          <p:cNvCxnSpPr/>
          <p:nvPr/>
        </p:nvCxnSpPr>
        <p:spPr>
          <a:xfrm>
            <a:off x="6098760" y="2095200"/>
            <a:ext cx="7722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2" name=""/>
          <p:cNvCxnSpPr/>
          <p:nvPr/>
        </p:nvCxnSpPr>
        <p:spPr>
          <a:xfrm>
            <a:off x="5032080" y="2095200"/>
            <a:ext cx="770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>
            <a:off x="7195680" y="2095200"/>
            <a:ext cx="7722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4" name=""/>
          <p:cNvCxnSpPr>
            <a:stCxn id="515" idx="0"/>
            <a:endCxn id="519" idx="0"/>
          </p:cNvCxnSpPr>
          <p:nvPr/>
        </p:nvCxnSpPr>
        <p:spPr>
          <a:xfrm flipH="1" flipV="1" rot="5400000">
            <a:off x="5947920" y="-232560"/>
            <a:ext cx="2520" cy="4365000"/>
          </a:xfrm>
          <a:prstGeom prst="bentConnector3">
            <a:avLst>
              <a:gd name="adj1" fmla="val 1450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5" name=""/>
          <p:cNvSpPr/>
          <p:nvPr/>
        </p:nvSpPr>
        <p:spPr>
          <a:xfrm>
            <a:off x="6659640" y="2778120"/>
            <a:ext cx="1633320" cy="41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942680" y="22399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39680" y="22399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00480" y="2093760"/>
            <a:ext cx="120312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7032600" y="2238120"/>
            <a:ext cx="163440" cy="53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351080" y="1812960"/>
            <a:ext cx="1049400" cy="41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dvLis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2765520" y="424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58280" y="2082960"/>
            <a:ext cx="6238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r untersuchen nun im Folgenden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e Realisierung der Meth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Fir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1149480" y="2097000"/>
            <a:ext cx="6094440" cy="5821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urrentNode := Dummy.ReadSuc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95440" y="3457440"/>
            <a:ext cx="447840" cy="433440"/>
          </a:xfrm>
          <a:prstGeom prst="ellipse">
            <a:avLst/>
          </a:prstGeom>
          <a:solidFill>
            <a:srgbClr val="c9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03480" y="34574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81640" y="34574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989680" y="34574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7720" y="34574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36" idx="6"/>
            <a:endCxn id="537" idx="2"/>
          </p:cNvCxnSpPr>
          <p:nvPr/>
        </p:nvCxnSpPr>
        <p:spPr>
          <a:xfrm>
            <a:off x="1942920" y="367488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>
            <a:off x="4929120" y="36748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3" name=""/>
          <p:cNvCxnSpPr/>
          <p:nvPr/>
        </p:nvCxnSpPr>
        <p:spPr>
          <a:xfrm>
            <a:off x="3460680" y="36748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4" name=""/>
          <p:cNvCxnSpPr/>
          <p:nvPr/>
        </p:nvCxnSpPr>
        <p:spPr>
          <a:xfrm>
            <a:off x="6437160" y="36748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>
            <a:off x="1149480" y="4592520"/>
            <a:ext cx="100620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64240" y="4592520"/>
            <a:ext cx="163836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237360" y="38905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719360" y="38905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237360" y="3890520"/>
            <a:ext cx="0" cy="70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3450960" y="3890520"/>
            <a:ext cx="22129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"/>
          <p:cNvCxnSpPr>
            <a:endCxn id="540" idx="6"/>
          </p:cNvCxnSpPr>
          <p:nvPr/>
        </p:nvCxnSpPr>
        <p:spPr>
          <a:xfrm>
            <a:off x="1149480" y="3176280"/>
            <a:ext cx="6796800" cy="499320"/>
          </a:xfrm>
          <a:prstGeom prst="bentConnector3">
            <a:avLst>
              <a:gd name="adj1" fmla="val 1033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endCxn id="536" idx="2"/>
          </p:cNvCxnSpPr>
          <p:nvPr/>
        </p:nvCxnSpPr>
        <p:spPr>
          <a:xfrm flipH="1" rot="16200000">
            <a:off x="1072080" y="3252600"/>
            <a:ext cx="499320" cy="346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a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1149480" y="2097000"/>
            <a:ext cx="6094440" cy="5821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urrentNode := Dummy.ReadPr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495440" y="3457440"/>
            <a:ext cx="447840" cy="433440"/>
          </a:xfrm>
          <a:prstGeom prst="ellipse">
            <a:avLst/>
          </a:prstGeom>
          <a:solidFill>
            <a:srgbClr val="c9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03480" y="34574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81640" y="34574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989680" y="34574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97720" y="345744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5" idx="6"/>
            <a:endCxn id="556" idx="2"/>
          </p:cNvCxnSpPr>
          <p:nvPr/>
        </p:nvCxnSpPr>
        <p:spPr>
          <a:xfrm>
            <a:off x="1942920" y="3674880"/>
            <a:ext cx="106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1" name=""/>
          <p:cNvCxnSpPr/>
          <p:nvPr/>
        </p:nvCxnSpPr>
        <p:spPr>
          <a:xfrm>
            <a:off x="4929120" y="36748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2" name=""/>
          <p:cNvCxnSpPr/>
          <p:nvPr/>
        </p:nvCxnSpPr>
        <p:spPr>
          <a:xfrm>
            <a:off x="3460680" y="36748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3" name=""/>
          <p:cNvCxnSpPr/>
          <p:nvPr/>
        </p:nvCxnSpPr>
        <p:spPr>
          <a:xfrm>
            <a:off x="6437160" y="3674880"/>
            <a:ext cx="106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4" name=""/>
          <p:cNvSpPr/>
          <p:nvPr/>
        </p:nvSpPr>
        <p:spPr>
          <a:xfrm>
            <a:off x="1149480" y="4592520"/>
            <a:ext cx="100620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664240" y="4592520"/>
            <a:ext cx="163836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237360" y="38905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719360" y="38905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237360" y="3890520"/>
            <a:ext cx="0" cy="70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931080" y="3890520"/>
            <a:ext cx="56664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"/>
          <p:cNvCxnSpPr>
            <a:endCxn id="559" idx="6"/>
          </p:cNvCxnSpPr>
          <p:nvPr/>
        </p:nvCxnSpPr>
        <p:spPr>
          <a:xfrm>
            <a:off x="1149480" y="3176280"/>
            <a:ext cx="6796800" cy="499320"/>
          </a:xfrm>
          <a:prstGeom prst="bentConnector3">
            <a:avLst>
              <a:gd name="adj1" fmla="val 1033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endCxn id="555" idx="2"/>
          </p:cNvCxnSpPr>
          <p:nvPr/>
        </p:nvCxnSpPr>
        <p:spPr>
          <a:xfrm flipH="1" rot="16200000">
            <a:off x="1072080" y="3252600"/>
            <a:ext cx="499320" cy="346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dvListe : Cre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1351080" y="1819440"/>
            <a:ext cx="6537240" cy="145764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mmy:=TListnode.Create(ni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mmy.WriteSucc(Dumm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mmy.WritePred(Dumm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urrentNode:=Dumm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876400" y="3862080"/>
            <a:ext cx="3115080" cy="1572480"/>
            <a:chOff x="2876400" y="3862080"/>
            <a:chExt cx="3115080" cy="1572480"/>
          </a:xfrm>
        </p:grpSpPr>
        <p:sp>
          <p:nvSpPr>
            <p:cNvPr id="575" name=""/>
            <p:cNvSpPr/>
            <p:nvPr/>
          </p:nvSpPr>
          <p:spPr>
            <a:xfrm>
              <a:off x="2876400" y="424296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04600" y="4091040"/>
              <a:ext cx="1087920" cy="449280"/>
            </a:xfrm>
            <a:prstGeom prst="rect">
              <a:avLst/>
            </a:prstGeom>
            <a:solidFill>
              <a:srgbClr val="a7ff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nil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76" idx="3"/>
              <a:endCxn id="576" idx="0"/>
            </p:cNvCxnSpPr>
            <p:nvPr/>
          </p:nvCxnSpPr>
          <p:spPr>
            <a:xfrm flipH="1" flipV="1">
              <a:off x="4048920" y="4090680"/>
              <a:ext cx="602280" cy="228960"/>
            </a:xfrm>
            <a:prstGeom prst="bentConnector4">
              <a:avLst>
                <a:gd name="adj1" fmla="val -37978"/>
                <a:gd name="adj2" fmla="val 20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>
              <a:stCxn id="576" idx="1"/>
              <a:endCxn id="576" idx="2"/>
            </p:cNvCxnSpPr>
            <p:nvPr/>
          </p:nvCxnSpPr>
          <p:spPr>
            <a:xfrm flipH="1" flipV="1" rot="10800000">
              <a:off x="3445920" y="4318920"/>
              <a:ext cx="494640" cy="228960"/>
            </a:xfrm>
            <a:prstGeom prst="bentConnector4">
              <a:avLst>
                <a:gd name="adj1" fmla="val -46249"/>
                <a:gd name="adj2" fmla="val 20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9" name=""/>
            <p:cNvSpPr/>
            <p:nvPr/>
          </p:nvSpPr>
          <p:spPr>
            <a:xfrm>
              <a:off x="3747960" y="509724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um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12720" y="509724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endCxn id="576" idx="2"/>
            </p:cNvCxnSpPr>
            <p:nvPr/>
          </p:nvCxnSpPr>
          <p:spPr>
            <a:xfrm flipV="1">
              <a:off x="4049280" y="4547160"/>
              <a:ext cx="1080" cy="54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2" name=""/>
            <p:cNvCxnSpPr>
              <a:stCxn id="580" idx="0"/>
            </p:cNvCxnSpPr>
            <p:nvPr/>
          </p:nvCxnSpPr>
          <p:spPr>
            <a:xfrm flipH="1" flipV="1">
              <a:off x="4434840" y="4547160"/>
              <a:ext cx="1060920" cy="54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dvListe.Insert(Eleme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1149480" y="181440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:=TListnode.Create(Element)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76400" y="445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90560" y="4300560"/>
            <a:ext cx="157824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1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553392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91280" y="4303800"/>
            <a:ext cx="152856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2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49480" y="218124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.WriteSucc(currentNod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49480" y="254808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.WritePred(currentNode.ReadP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49480" y="291456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.WritePred(newNod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49480" y="328140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.ReadPred.WriteSucc(newNod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"/>
          <p:cNvCxnSpPr/>
          <p:nvPr/>
        </p:nvCxnSpPr>
        <p:spPr>
          <a:xfrm rot="10800000">
            <a:off x="777240" y="4757040"/>
            <a:ext cx="910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4" name=""/>
          <p:cNvSpPr/>
          <p:nvPr/>
        </p:nvSpPr>
        <p:spPr>
          <a:xfrm>
            <a:off x="1149480" y="364824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 := new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"/>
          <p:cNvCxnSpPr/>
          <p:nvPr/>
        </p:nvCxnSpPr>
        <p:spPr>
          <a:xfrm>
            <a:off x="777600" y="4452480"/>
            <a:ext cx="913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6" name=""/>
          <p:cNvSpPr/>
          <p:nvPr/>
        </p:nvSpPr>
        <p:spPr>
          <a:xfrm>
            <a:off x="7719840" y="4452840"/>
            <a:ext cx="60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92320" y="4765680"/>
            <a:ext cx="822600" cy="88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3268440" y="4757760"/>
            <a:ext cx="52380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370480" y="4775040"/>
            <a:ext cx="1106640" cy="758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5370480" y="4775040"/>
            <a:ext cx="820800" cy="5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201080" y="47779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201080" y="4777920"/>
            <a:ext cx="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5370480" y="5651280"/>
            <a:ext cx="1106640" cy="11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777080" y="424008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13240" y="4765680"/>
            <a:ext cx="53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p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719480" y="476568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3792600" y="5307120"/>
            <a:ext cx="1577880" cy="1010160"/>
            <a:chOff x="3792600" y="5307120"/>
            <a:chExt cx="1577880" cy="1010160"/>
          </a:xfrm>
        </p:grpSpPr>
        <p:sp>
          <p:nvSpPr>
            <p:cNvPr id="608" name=""/>
            <p:cNvSpPr/>
            <p:nvPr/>
          </p:nvSpPr>
          <p:spPr>
            <a:xfrm>
              <a:off x="4084200" y="597996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w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92600" y="5307120"/>
              <a:ext cx="1577880" cy="449280"/>
            </a:xfrm>
            <a:prstGeom prst="rect">
              <a:avLst/>
            </a:prstGeom>
            <a:solidFill>
              <a:srgbClr val="a7ff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Element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545000" y="57639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3268800" y="4452840"/>
            <a:ext cx="29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268800" y="4757760"/>
            <a:ext cx="29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268800" y="4757760"/>
            <a:ext cx="292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68800" y="4452840"/>
            <a:ext cx="292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49480" y="1814400"/>
            <a:ext cx="5243400" cy="2200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ineare Lis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846440" y="2021040"/>
            <a:ext cx="44748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2424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3228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032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6840" y="3071880"/>
            <a:ext cx="100656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0"/>
            <a:endCxn id="154" idx="4"/>
          </p:cNvCxnSpPr>
          <p:nvPr/>
        </p:nvCxnSpPr>
        <p:spPr>
          <a:xfrm flipV="1">
            <a:off x="5010120" y="2453760"/>
            <a:ext cx="46800" cy="618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1461600" y="17762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2" idx="6"/>
            <a:endCxn id="153" idx="2"/>
          </p:cNvCxnSpPr>
          <p:nvPr/>
        </p:nvCxnSpPr>
        <p:spPr>
          <a:xfrm>
            <a:off x="2293920" y="22381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3" idx="6"/>
            <a:endCxn id="154" idx="2"/>
          </p:cNvCxnSpPr>
          <p:nvPr/>
        </p:nvCxnSpPr>
        <p:spPr>
          <a:xfrm>
            <a:off x="3771720" y="2238120"/>
            <a:ext cx="106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4" idx="6"/>
            <a:endCxn id="155" idx="2"/>
          </p:cNvCxnSpPr>
          <p:nvPr/>
        </p:nvCxnSpPr>
        <p:spPr>
          <a:xfrm>
            <a:off x="5279760" y="2238120"/>
            <a:ext cx="106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1460520" y="3954600"/>
            <a:ext cx="5437080" cy="1371600"/>
          </a:xfrm>
          <a:prstGeom prst="wedgeRectCallout">
            <a:avLst>
              <a:gd name="adj1" fmla="val -12217"/>
              <a:gd name="adj2" fmla="val -157175"/>
            </a:avLst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LinListNode = class(T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ValueP{ointer}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TObj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ccP{ointer} : TLinList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28680" y="1776240"/>
            <a:ext cx="50040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94640" y="150192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606840" y="1776240"/>
            <a:ext cx="50004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72440" y="150192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056200" y="1776240"/>
            <a:ext cx="50004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21800" y="150192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622920" y="1776240"/>
            <a:ext cx="50004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8880" y="150192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dvListe.Insert(Eleme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149480" y="181440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:=TListnode.Create(Element)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49480" y="218124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.WriteSucc(currentNod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149480" y="254808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.WritePred(currentNode.ReadP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9480" y="291456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.WritePred(newNod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149480" y="328140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Node.ReadPred.WriteSucc(newNod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49480" y="3648240"/>
            <a:ext cx="5243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 := new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49480" y="1814400"/>
            <a:ext cx="5243400" cy="2200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57880" y="4611600"/>
            <a:ext cx="418932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ieren Sie es au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se Anweisungsfolge arbeitet auch bei einer leeren Liste korrek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044720" y="4291560"/>
            <a:ext cx="3114720" cy="1573560"/>
            <a:chOff x="1044720" y="4291560"/>
            <a:chExt cx="3114720" cy="1573560"/>
          </a:xfrm>
        </p:grpSpPr>
        <p:sp>
          <p:nvSpPr>
            <p:cNvPr id="626" name=""/>
            <p:cNvSpPr/>
            <p:nvPr/>
          </p:nvSpPr>
          <p:spPr>
            <a:xfrm>
              <a:off x="1044720" y="4673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72560" y="4521240"/>
              <a:ext cx="1087920" cy="449280"/>
            </a:xfrm>
            <a:prstGeom prst="rect">
              <a:avLst/>
            </a:prstGeom>
            <a:solidFill>
              <a:srgbClr val="a7ff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nil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7" idx="0"/>
            </p:cNvCxnSpPr>
            <p:nvPr/>
          </p:nvCxnSpPr>
          <p:spPr>
            <a:xfrm flipH="1" flipV="1">
              <a:off x="2217240" y="4520520"/>
              <a:ext cx="601920" cy="229320"/>
            </a:xfrm>
            <a:prstGeom prst="bentConnector4">
              <a:avLst>
                <a:gd name="adj1" fmla="val -37941"/>
                <a:gd name="adj2" fmla="val 20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1"/>
              <a:endCxn id="627" idx="2"/>
            </p:cNvCxnSpPr>
            <p:nvPr/>
          </p:nvCxnSpPr>
          <p:spPr>
            <a:xfrm flipH="1" flipV="1" rot="10800000">
              <a:off x="1613160" y="4748760"/>
              <a:ext cx="494280" cy="229320"/>
            </a:xfrm>
            <a:prstGeom prst="bentConnector4">
              <a:avLst>
                <a:gd name="adj1" fmla="val -46282"/>
                <a:gd name="adj2" fmla="val 20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0" name=""/>
            <p:cNvSpPr/>
            <p:nvPr/>
          </p:nvSpPr>
          <p:spPr>
            <a:xfrm>
              <a:off x="1915560" y="552780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um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80680" y="552780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"/>
            <p:cNvCxnSpPr>
              <a:endCxn id="627" idx="2"/>
            </p:cNvCxnSpPr>
            <p:nvPr/>
          </p:nvCxnSpPr>
          <p:spPr>
            <a:xfrm flipV="1">
              <a:off x="2217240" y="497808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3" name=""/>
            <p:cNvCxnSpPr>
              <a:stCxn id="631" idx="0"/>
            </p:cNvCxnSpPr>
            <p:nvPr/>
          </p:nvCxnSpPr>
          <p:spPr>
            <a:xfrm flipH="1" flipV="1">
              <a:off x="2603160" y="4978080"/>
              <a:ext cx="106056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dvListe.Delete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(den aktuellen Knoten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1690560" y="4314960"/>
            <a:ext cx="96228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575240" y="553896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/>
          <p:nvPr/>
        </p:nvCxnSpPr>
        <p:spPr>
          <a:xfrm>
            <a:off x="777600" y="4466880"/>
            <a:ext cx="913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7448400" y="4467240"/>
            <a:ext cx="8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777080" y="425448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83120" y="4314960"/>
            <a:ext cx="96192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ele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86480" y="4314960"/>
            <a:ext cx="96192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52840" y="44672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056200" y="446256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4574880" y="4772160"/>
            <a:ext cx="46980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"/>
          <p:cNvCxnSpPr>
            <a:stCxn id="635" idx="0"/>
            <a:endCxn id="641" idx="0"/>
          </p:cNvCxnSpPr>
          <p:nvPr/>
        </p:nvCxnSpPr>
        <p:spPr>
          <a:xfrm flipH="1" rot="16200000">
            <a:off x="4568760" y="1917720"/>
            <a:ext cx="2160" cy="479628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"/>
          <p:cNvSpPr/>
          <p:nvPr/>
        </p:nvSpPr>
        <p:spPr>
          <a:xfrm>
            <a:off x="4762440" y="4467240"/>
            <a:ext cx="1724040" cy="107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49480" y="1814400"/>
            <a:ext cx="6638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.ReadPred.WriteSucc(currentNode.ReadSuc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86480" y="5538960"/>
            <a:ext cx="13017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486480" y="4314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486480" y="5538960"/>
            <a:ext cx="0" cy="336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22520" y="4249800"/>
            <a:ext cx="53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p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49480" y="2181240"/>
            <a:ext cx="6638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.ReadSucc.WritePred(currentNode.ReadP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652840" y="4467240"/>
            <a:ext cx="1430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652480" y="472608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044680" y="469440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777600" y="4694400"/>
            <a:ext cx="91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7448040" y="4680000"/>
            <a:ext cx="8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044680" y="4694400"/>
            <a:ext cx="1430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9" name=""/>
          <p:cNvCxnSpPr>
            <a:stCxn id="641" idx="2"/>
            <a:endCxn id="635" idx="2"/>
          </p:cNvCxnSpPr>
          <p:nvPr/>
        </p:nvCxnSpPr>
        <p:spPr>
          <a:xfrm rot="5400000">
            <a:off x="4568040" y="2374920"/>
            <a:ext cx="2160" cy="4796280"/>
          </a:xfrm>
          <a:prstGeom prst="bentConnector3">
            <a:avLst>
              <a:gd name="adj1" fmla="val 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1138320" y="2548080"/>
            <a:ext cx="6638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mp := curren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505320" y="4725720"/>
            <a:ext cx="914400" cy="1150200"/>
            <a:chOff x="3505320" y="4725720"/>
            <a:chExt cx="914400" cy="1150200"/>
          </a:xfrm>
        </p:grpSpPr>
        <p:sp>
          <p:nvSpPr>
            <p:cNvPr id="662" name=""/>
            <p:cNvSpPr/>
            <p:nvPr/>
          </p:nvSpPr>
          <p:spPr>
            <a:xfrm>
              <a:off x="3505320" y="5538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e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4083120" y="4725720"/>
              <a:ext cx="336600" cy="8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149480" y="2914560"/>
            <a:ext cx="6638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:=currentNode.ReadSuc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574880" y="4772160"/>
            <a:ext cx="469800" cy="766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715000" y="4773600"/>
            <a:ext cx="1092240" cy="76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3281400"/>
            <a:ext cx="66387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mp.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652840" y="4249800"/>
            <a:ext cx="38224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52840" y="431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149480" y="1814400"/>
            <a:ext cx="6627600" cy="1833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dvListe.Delete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(den aktuellen Knoten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1260360" y="1852560"/>
            <a:ext cx="7066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Also ist es sinnvoll, durch das listenverwaltende Objekt diejenigen Objekte, auf welche die Liste zeigt, - </a:t>
            </a:r>
            <a:r>
              <a:rPr b="1" lang="de-DE" sz="1700" spc="-1" strike="noStrike">
                <a:solidFill>
                  <a:srgbClr val="ff0000"/>
                </a:solidFill>
                <a:latin typeface="Arial"/>
              </a:rPr>
              <a:t>wenn gewollt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 - vor dem delete zu lösche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51080" y="3011400"/>
            <a:ext cx="7065720" cy="19832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liste := TdvListe.Cre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.....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liste.isempty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hliste.GetElement.destro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Liste.dele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60360" y="5359320"/>
            <a:ext cx="706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Nicht gewoll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ist das Löschen z.B., wenn Elemente aus einer Liste herausgenommen und in eine andere Liste hineingeschrieben werden so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dvLis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1351080" y="2496960"/>
            <a:ext cx="6094440" cy="265356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iel Vergnü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i der Bearb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r zweiten Aufgabe(n)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01560" y="5427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109960" y="542772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587760" y="5427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95800" y="5427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603840" y="54277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082000" y="542772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01560" y="1797120"/>
            <a:ext cx="447840" cy="433440"/>
          </a:xfrm>
          <a:prstGeom prst="ellipse">
            <a:avLst/>
          </a:prstGeom>
          <a:solidFill>
            <a:srgbClr val="c9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109240" y="179712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3587760" y="17971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095800" y="17971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603840" y="179712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6167520" y="152856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167520" y="1528560"/>
            <a:ext cx="0" cy="70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8081280" y="179712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082000" y="437976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082000" y="312264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01560" y="284328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601560" y="410040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"/>
          <p:cNvCxnSpPr>
            <a:stCxn id="677" idx="6"/>
            <a:endCxn id="678" idx="2"/>
          </p:cNvCxnSpPr>
          <p:nvPr/>
        </p:nvCxnSpPr>
        <p:spPr>
          <a:xfrm>
            <a:off x="1049400" y="5644800"/>
            <a:ext cx="1061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6" name=""/>
          <p:cNvCxnSpPr/>
          <p:nvPr/>
        </p:nvCxnSpPr>
        <p:spPr>
          <a:xfrm>
            <a:off x="2557440" y="5644800"/>
            <a:ext cx="1061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7" name=""/>
          <p:cNvCxnSpPr/>
          <p:nvPr/>
        </p:nvCxnSpPr>
        <p:spPr>
          <a:xfrm>
            <a:off x="4035240" y="5644800"/>
            <a:ext cx="106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8" name=""/>
          <p:cNvCxnSpPr/>
          <p:nvPr/>
        </p:nvCxnSpPr>
        <p:spPr>
          <a:xfrm>
            <a:off x="5543280" y="5644800"/>
            <a:ext cx="106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9" name=""/>
          <p:cNvCxnSpPr/>
          <p:nvPr/>
        </p:nvCxnSpPr>
        <p:spPr>
          <a:xfrm>
            <a:off x="7021440" y="5644800"/>
            <a:ext cx="1061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0" name=""/>
          <p:cNvCxnSpPr>
            <a:stCxn id="683" idx="2"/>
            <a:endCxn id="684" idx="6"/>
          </p:cNvCxnSpPr>
          <p:nvPr/>
        </p:nvCxnSpPr>
        <p:spPr>
          <a:xfrm>
            <a:off x="1049400" y="2012760"/>
            <a:ext cx="1061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1" name=""/>
          <p:cNvCxnSpPr/>
          <p:nvPr/>
        </p:nvCxnSpPr>
        <p:spPr>
          <a:xfrm>
            <a:off x="2557440" y="2012760"/>
            <a:ext cx="1061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2" name=""/>
          <p:cNvCxnSpPr/>
          <p:nvPr/>
        </p:nvCxnSpPr>
        <p:spPr>
          <a:xfrm>
            <a:off x="4035240" y="2012760"/>
            <a:ext cx="106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3" name=""/>
          <p:cNvCxnSpPr/>
          <p:nvPr/>
        </p:nvCxnSpPr>
        <p:spPr>
          <a:xfrm>
            <a:off x="5543280" y="2012760"/>
            <a:ext cx="106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4" name=""/>
          <p:cNvCxnSpPr/>
          <p:nvPr/>
        </p:nvCxnSpPr>
        <p:spPr>
          <a:xfrm>
            <a:off x="7021440" y="2012760"/>
            <a:ext cx="1061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5" name=""/>
          <p:cNvCxnSpPr>
            <a:stCxn id="683" idx="4"/>
            <a:endCxn id="693" idx="4"/>
          </p:cNvCxnSpPr>
          <p:nvPr/>
        </p:nvCxnSpPr>
        <p:spPr>
          <a:xfrm flipH="1">
            <a:off x="823680" y="2228400"/>
            <a:ext cx="2160" cy="61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6" name=""/>
          <p:cNvCxnSpPr>
            <a:endCxn id="694" idx="4"/>
          </p:cNvCxnSpPr>
          <p:nvPr/>
        </p:nvCxnSpPr>
        <p:spPr>
          <a:xfrm>
            <a:off x="823680" y="3276360"/>
            <a:ext cx="1080" cy="82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7" name=""/>
          <p:cNvCxnSpPr>
            <a:endCxn id="677" idx="0"/>
          </p:cNvCxnSpPr>
          <p:nvPr/>
        </p:nvCxnSpPr>
        <p:spPr>
          <a:xfrm flipH="1">
            <a:off x="825120" y="4543560"/>
            <a:ext cx="2160" cy="88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8" name=""/>
          <p:cNvCxnSpPr>
            <a:stCxn id="690" idx="4"/>
            <a:endCxn id="692" idx="0"/>
          </p:cNvCxnSpPr>
          <p:nvPr/>
        </p:nvCxnSpPr>
        <p:spPr>
          <a:xfrm>
            <a:off x="8305560" y="2228400"/>
            <a:ext cx="1080" cy="89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9" name=""/>
          <p:cNvCxnSpPr>
            <a:endCxn id="691" idx="0"/>
          </p:cNvCxnSpPr>
          <p:nvPr/>
        </p:nvCxnSpPr>
        <p:spPr>
          <a:xfrm>
            <a:off x="8305560" y="3556080"/>
            <a:ext cx="1080" cy="824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0" name=""/>
          <p:cNvCxnSpPr>
            <a:stCxn id="691" idx="4"/>
            <a:endCxn id="682" idx="0"/>
          </p:cNvCxnSpPr>
          <p:nvPr/>
        </p:nvCxnSpPr>
        <p:spPr>
          <a:xfrm>
            <a:off x="8305560" y="4812840"/>
            <a:ext cx="1080" cy="61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Knoten: Metho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351080" y="1962000"/>
            <a:ext cx="6537240" cy="3375000"/>
            <a:chOff x="1351080" y="1962000"/>
            <a:chExt cx="6537240" cy="3375000"/>
          </a:xfrm>
        </p:grpSpPr>
        <p:sp>
          <p:nvSpPr>
            <p:cNvPr id="173" name=""/>
            <p:cNvSpPr/>
            <p:nvPr/>
          </p:nvSpPr>
          <p:spPr>
            <a:xfrm>
              <a:off x="1351080" y="1962000"/>
              <a:ext cx="6537240" cy="33750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LinListNode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= class(TObjec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alueP: TObjec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uccP : TListNode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onstructor </a:t>
              </a: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Create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(Val:TObject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unction   </a:t>
              </a: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 ReadValue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: TObjec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cedure </a:t>
              </a: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WriteValue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(Val: TObject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unction    </a:t>
              </a: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ReadSucc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: TListnode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cedure </a:t>
              </a: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WriteSucc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(Succ:TListnode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estructor </a:t>
              </a: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Destroy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d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02280" y="2583000"/>
              <a:ext cx="0" cy="635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51360" y="2063880"/>
              <a:ext cx="4687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 Black"/>
                </a:rPr>
                <a:t>!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Realisierung TLin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111320" y="3781440"/>
            <a:ext cx="6537240" cy="276804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rster Versuch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TLinListe = class(T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unt,Index:integer; {Hilfsvariab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Dummy, currentNode:TLinList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tructor Create; virt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1320" y="2236680"/>
            <a:ext cx="447480" cy="433440"/>
          </a:xfrm>
          <a:prstGeom prst="ellipse">
            <a:avLst/>
          </a:prstGeom>
          <a:solidFill>
            <a:srgbClr val="c9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19360" y="223668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97160" y="223668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05560" y="223668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13600" y="223668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5000" y="3097080"/>
            <a:ext cx="100656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3360" y="3097080"/>
            <a:ext cx="159048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0440" y="1798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/>
          <p:nvPr/>
        </p:nvCxnSpPr>
        <p:spPr>
          <a:xfrm>
            <a:off x="1589040" y="24537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3066840" y="2435040"/>
            <a:ext cx="1030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>
            <a:off x="4545000" y="245700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>
            <a:off x="6083280" y="24537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 flipV="1">
            <a:off x="1351080" y="267012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791320" y="267012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01960" y="1973160"/>
            <a:ext cx="50004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67560" y="1698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79760" y="1991880"/>
            <a:ext cx="500040" cy="461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45720" y="17175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888160" y="1973160"/>
            <a:ext cx="50004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53760" y="1698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396200" y="1973160"/>
            <a:ext cx="50004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61800" y="1698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 : Metho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351080" y="2908440"/>
            <a:ext cx="6537240" cy="334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tructor Crea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tructor Destro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rt         (Element: TObjec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rtFirst (Element: TObjec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lete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st;  Nex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fra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tElement: TObjec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slast: boolea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sempty: Boolea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46440" y="2021040"/>
            <a:ext cx="44748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2424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3228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40320" y="2021040"/>
            <a:ext cx="447840" cy="43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41920" y="1409760"/>
            <a:ext cx="11462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endCxn id="204" idx="7"/>
          </p:cNvCxnSpPr>
          <p:nvPr/>
        </p:nvCxnSpPr>
        <p:spPr>
          <a:xfrm flipH="1">
            <a:off x="5214600" y="1693440"/>
            <a:ext cx="427680" cy="39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825560" y="1693800"/>
            <a:ext cx="45540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2" idx="6"/>
            <a:endCxn id="203" idx="2"/>
          </p:cNvCxnSpPr>
          <p:nvPr/>
        </p:nvCxnSpPr>
        <p:spPr>
          <a:xfrm>
            <a:off x="2293920" y="22381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3" idx="6"/>
            <a:endCxn id="204" idx="2"/>
          </p:cNvCxnSpPr>
          <p:nvPr/>
        </p:nvCxnSpPr>
        <p:spPr>
          <a:xfrm>
            <a:off x="3771720" y="2238120"/>
            <a:ext cx="106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4" idx="6"/>
            <a:endCxn id="205" idx="2"/>
          </p:cNvCxnSpPr>
          <p:nvPr/>
        </p:nvCxnSpPr>
        <p:spPr>
          <a:xfrm>
            <a:off x="5279760" y="2238120"/>
            <a:ext cx="106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2765520" y="424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48920" y="2082960"/>
            <a:ext cx="5510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r untersuchen zuerst die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bleme beim Realisieren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r Meth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LinList.Del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260360" y="328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74880" y="3129120"/>
            <a:ext cx="96192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403848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>
            <a:off x="961920" y="3281040"/>
            <a:ext cx="91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7632720" y="3281400"/>
            <a:ext cx="8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61400" y="3068640"/>
            <a:ext cx="54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3129120"/>
            <a:ext cx="96228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70800" y="3129120"/>
            <a:ext cx="961920" cy="449280"/>
          </a:xfrm>
          <a:prstGeom prst="rect">
            <a:avLst/>
          </a:prstGeom>
          <a:solidFill>
            <a:srgbClr val="a7f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36800" y="328140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0160" y="3276720"/>
            <a:ext cx="143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827600" y="3586320"/>
            <a:ext cx="0" cy="45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7" idx="0"/>
            <a:endCxn id="223" idx="0"/>
          </p:cNvCxnSpPr>
          <p:nvPr/>
        </p:nvCxnSpPr>
        <p:spPr>
          <a:xfrm flipH="1" rot="16200000">
            <a:off x="4753080" y="731520"/>
            <a:ext cx="2160" cy="47966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2836800" y="3276720"/>
            <a:ext cx="1430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77760" y="1890720"/>
            <a:ext cx="5534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 wie im Folgenden gezeigt hätten wir es ger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74880" y="4527720"/>
            <a:ext cx="5757840" cy="17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s ist nicht möglich, wir können ja nicht auf de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Vorgänger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des aktuellen Knotens zugreif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ösung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r verwalten den Vorgänger des aktuellen Knotens in einer Objektvariablen (PredNode) 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Realisierung TLin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111320" y="3781440"/>
            <a:ext cx="6537240" cy="2768040"/>
          </a:xfrm>
          <a:prstGeom prst="rect">
            <a:avLst/>
          </a:prstGeom>
          <a:solidFill>
            <a:srgbClr val="ffff66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Zweiter Versuch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TLinListe = class(T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unt,Index:integer; {Hilfsvariab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Dummy, PredNode, currentNode:TLinListN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tructor Create; virt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1320" y="2236680"/>
            <a:ext cx="447480" cy="433440"/>
          </a:xfrm>
          <a:prstGeom prst="ellipse">
            <a:avLst/>
          </a:prstGeom>
          <a:solidFill>
            <a:srgbClr val="c9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19360" y="223668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97160" y="223668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05560" y="2236680"/>
            <a:ext cx="44748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13600" y="2236680"/>
            <a:ext cx="447840" cy="433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5000" y="3097080"/>
            <a:ext cx="100656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13360" y="3079800"/>
            <a:ext cx="137484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0440" y="1798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/>
          <p:nvPr/>
        </p:nvCxnSpPr>
        <p:spPr>
          <a:xfrm>
            <a:off x="1589040" y="24537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/>
          <p:nvPr/>
        </p:nvCxnSpPr>
        <p:spPr>
          <a:xfrm>
            <a:off x="3066840" y="2435040"/>
            <a:ext cx="1030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>
            <a:off x="4545000" y="245700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/>
          <p:nvPr/>
        </p:nvCxnSpPr>
        <p:spPr>
          <a:xfrm>
            <a:off x="6083280" y="245376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 flipV="1">
            <a:off x="1351080" y="267012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791320" y="267012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901960" y="1973160"/>
            <a:ext cx="50004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67560" y="1698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79760" y="1991880"/>
            <a:ext cx="500040" cy="461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45720" y="17175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88160" y="1973160"/>
            <a:ext cx="50004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53760" y="1698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396200" y="1973160"/>
            <a:ext cx="500040" cy="462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61800" y="1698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Objec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75160" y="3097080"/>
            <a:ext cx="1304640" cy="4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d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352760" y="267012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16:23:06Z</dcterms:created>
  <dc:creator>Georg Kubitz, Lienen</dc:creator>
  <dc:description/>
  <dc:language>en-US</dc:language>
  <cp:lastModifiedBy>Georg Kubitz</cp:lastModifiedBy>
  <cp:lastPrinted>2000-06-07T08:49:34Z</cp:lastPrinted>
  <dcterms:modified xsi:type="dcterms:W3CDTF">2002-04-19T20:27:18Z</dcterms:modified>
  <cp:revision>113</cp:revision>
  <dc:subject/>
  <dc:title>LP Informatik SII : verkettete Listen</dc:title>
</cp:coreProperties>
</file>